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113CB-B92C-4FF6-9838-4462A00D4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B0F5E-6D5D-4DD9-9CE1-76C2F6EAD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D7CC6-21D1-4D78-B0D3-B4F343EDD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A5664-044F-4095-8DF7-AED1F3B46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AB549-7298-4577-BF33-030A908FB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67EB2-E12D-45E9-A677-CD317CE04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3A769-48CF-405E-946A-91BCAA6CB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2748A-862C-40F6-96FA-89A6E9572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8A5FF-1A5F-4AD5-AD60-5A0AF6271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F561B-0D6F-4936-AC62-72D58C295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B3D4-F739-4DC1-9295-4F1D94B43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9CB1F-49AB-405C-A240-AB3ADF077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1584-E3F2-4442-8331-2D69006877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2234880"/>
            <a:ext cx="8437680" cy="1211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Comic Sans MS"/>
              </a:rPr>
              <a:t>Calculus Final Project</a:t>
            </a:r>
            <a:endParaRPr b="0" lang="en-US" sz="6400" spc="-1" strike="noStrike">
              <a:solidFill>
                <a:srgbClr val="000000"/>
              </a:solidFill>
              <a:latin typeface="Times New Roman"/>
            </a:endParaRPr>
          </a:p>
        </p:txBody>
      </p:sp>
      <p:sp>
        <p:nvSpPr>
          <p:cNvPr id="42" name="PlaceHolder 2"/>
          <p:cNvSpPr>
            <a:spLocks noGrp="1"/>
          </p:cNvSpPr>
          <p:nvPr>
            <p:ph type="subTitle"/>
          </p:nvPr>
        </p:nvSpPr>
        <p:spPr>
          <a:xfrm>
            <a:off x="1771560" y="3657600"/>
            <a:ext cx="6618240" cy="92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ample Project</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pic: Story about Calcul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able of content</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lot summary.</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roblem mentioned and the solution.</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concepts of Calculus 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Plot Summary</a:t>
            </a:r>
            <a:endParaRPr b="0" lang="en-US" sz="4300" spc="-1" strike="noStrike">
              <a:solidFill>
                <a:srgbClr val="000000"/>
              </a:solidFill>
              <a:latin typeface="Times New Roman"/>
            </a:endParaRPr>
          </a:p>
        </p:txBody>
      </p:sp>
      <p:sp>
        <p:nvSpPr>
          <p:cNvPr id="46" name="PlaceHolder 2"/>
          <p:cNvSpPr>
            <a:spLocks noGrp="1"/>
          </p:cNvSpPr>
          <p:nvPr>
            <p:ph/>
          </p:nvPr>
        </p:nvSpPr>
        <p:spPr>
          <a:xfrm>
            <a:off x="146160" y="1625760"/>
            <a:ext cx="9648720" cy="4938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story took place in an imaginary world called Knowledgia. Lisio, the runaway royalty of the dictatorial kingdom of Caculusia had been hiding in Differentia, a colony of the kingdom and training himself. He wished to defeat the army of his uncle some day. Then one day, a snitch informed the emperor about Lisio's whereabouts. The emperor commanded a group of elite soldiers, leading by general Kakosio to come and capture Lisio. The general was challenged by Lisio and defeated, forced to retreat his army off Differentia. Lisio then tricked Kakosio to take him to the castle, where he once again challenged his own uncle and defeated him, forcing him to get rid of the dictatorship and set up policies to live in piece with the colon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he final problem</a:t>
            </a:r>
            <a:endParaRPr b="0" lang="en-US" sz="4300" spc="-1" strike="noStrike">
              <a:solidFill>
                <a:srgbClr val="000000"/>
              </a:solidFill>
              <a:latin typeface="Times New Roman"/>
            </a:endParaRPr>
          </a:p>
        </p:txBody>
      </p:sp>
      <p:pic>
        <p:nvPicPr>
          <p:cNvPr id="48" name="Picture 4" descr=""/>
          <p:cNvPicPr/>
          <p:nvPr/>
        </p:nvPicPr>
        <p:blipFill>
          <a:blip r:embed="rId2"/>
          <a:stretch/>
        </p:blipFill>
        <p:spPr>
          <a:xfrm>
            <a:off x="2235240" y="1015920"/>
            <a:ext cx="5968800" cy="2617920"/>
          </a:xfrm>
          <a:prstGeom prst="rect">
            <a:avLst/>
          </a:prstGeom>
          <a:ln w="0">
            <a:noFill/>
          </a:ln>
        </p:spPr>
      </p:pic>
      <p:sp>
        <p:nvSpPr>
          <p:cNvPr id="49" name="Text Box 5"/>
          <p:cNvSpPr/>
          <p:nvPr/>
        </p:nvSpPr>
        <p:spPr>
          <a:xfrm>
            <a:off x="654120" y="3759120"/>
            <a:ext cx="900900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ea of the kingdom of Calculusia, which has the shape of a circle is modeled by the function of S(r) = πr^2 with r being the radius of the kingdom. The kingdom is expanding its territory every month. Find the rate of change of the area of the castle inscribed in the circle area of the kingdom by the time the area of the whole kingdom is 5,000 km^2, given the rate of change of the area of the whole kingdom is 50 km^2/mon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Solution</a:t>
            </a:r>
            <a:endParaRPr b="0" lang="en-US" sz="4300" spc="-1" strike="noStrike">
              <a:solidFill>
                <a:srgbClr val="000000"/>
              </a:solidFill>
              <a:latin typeface="Times New Roman"/>
            </a:endParaRPr>
          </a:p>
        </p:txBody>
      </p:sp>
      <p:sp>
        <p:nvSpPr>
          <p:cNvPr id="51" name="PlaceHolder 2"/>
          <p:cNvSpPr>
            <a:spLocks noGrp="1"/>
          </p:cNvSpPr>
          <p:nvPr>
            <p:ph/>
          </p:nvPr>
        </p:nvSpPr>
        <p:spPr>
          <a:xfrm>
            <a:off x="247680" y="1422360"/>
            <a:ext cx="966312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cause the area of the kingdom is a circle, which is S = πr^2 = 5,000 ft^2, then the radius of the kingdom at that time will be r = √(5,000/π) = 50√(2π)/π km^2.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function of the area of the kingdom is S = πr^2. Differentiate both side I obtain dS/dt = 2πr dr/dt. Plug in the given value of dS/dt and r, I obtain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50 = 2π*[50√(2π)/π] dr/dt =&gt; dr/dt = √(2π)/4π km^2/month</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radii of the circle are halves of the diagonal line of the square castle, thus the edge of the castle will be [50√(2π)/π]*√(2) which is 100√(π)/π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Solution (part 2)</a:t>
            </a:r>
            <a:endParaRPr b="0" lang="en-US" sz="4300" spc="-1" strike="noStrike">
              <a:solidFill>
                <a:srgbClr val="000000"/>
              </a:solidFill>
              <a:latin typeface="Times New Roman"/>
            </a:endParaRPr>
          </a:p>
        </p:txBody>
      </p:sp>
      <p:sp>
        <p:nvSpPr>
          <p:cNvPr id="53" name="PlaceHolder 2"/>
          <p:cNvSpPr>
            <a:spLocks noGrp="1"/>
          </p:cNvSpPr>
          <p:nvPr>
            <p:ph/>
          </p:nvPr>
        </p:nvSpPr>
        <p:spPr>
          <a:xfrm>
            <a:off x="247680" y="1422360"/>
            <a:ext cx="966312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dge e of the castle is modeled by the function of r</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r) = r*√(2). Differentiate both side I obtai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dt = √(2) dr/dt = √(2)*√(2π)/4π = √(π)/2π ft/month which is the rate of change of the edge of the cast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addition, the area of the castle is modeled by the function of 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e) = e^2. Differentiate both side I obtai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A/dt = 2e de/dt = 2*[100√(π)/π]*[√(π)/2π] = 100/π km^2/mon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he related concepts of Calculus</a:t>
            </a:r>
            <a:endParaRPr b="0" lang="en-US" sz="43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xponential growth.</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ptimization problem.</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lated r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5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Comic Sans MS"/>
              </a:rPr>
              <a:t> </a:t>
            </a:r>
            <a:r>
              <a:rPr b="0" lang="en-US" sz="6400" spc="-1" strike="noStrike">
                <a:solidFill>
                  <a:srgbClr val="ffffff"/>
                </a:solidFill>
                <a:latin typeface="Comic Sans MS"/>
              </a:rPr>
              <a:t>Thank You for Listening~!</a:t>
            </a:r>
            <a:endParaRPr b="0" lang="en-US" sz="6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Administrator</cp:lastModifiedBy>
  <dcterms:modified xsi:type="dcterms:W3CDTF">2011-06-24T03:26:44Z</dcterms:modified>
  <cp:revision>4</cp:revision>
  <dc:subject/>
  <dc:title>PowerPoint Presentation</dc:title>
</cp:coreProperties>
</file>